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B8D2-E48E-41FC-B516-CF09DD78B8A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7F43-F0B9-4311-A8B5-FE92F6CC9B7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928-A0C3-42C4-B9B3-B29680A6786D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27D6-7DA3-4C2C-9A8E-464F33409ED6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8DE-1AB7-4F18-99AF-36E6CCABF0FE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C1C-878B-4CF4-9041-00A7BAC5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E5B-0267-43D3-8BDD-CC25EDC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EE8-7035-476D-9F30-E00FA6F2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69C-F4A9-4162-A521-39E3EFB1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184-BFB9-4C14-946A-C0F85C3A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250-2D30-487F-A375-DC61E2E9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949-7358-4667-8578-AA19DEB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B0A-535B-407B-AE9A-8FF49C28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4B4-3B50-40F9-90D7-1373852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771-B0D3-4709-ABEC-9360EC2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C97-3755-47BF-B39A-533288C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758-523C-4AD8-985A-AEAE884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84CD-C514-48AD-95D0-D66B2F58F6B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EL</a:t>
            </a:r>
            <a:r>
              <a:rPr b="1" lang="es-ES" sz="2800" spc="-1" strike="noStrike">
                <a:solidFill>
                  <a:srgbClr val="b7e7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DJETIVO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radicionalmente se define el adjetivo como una palabra que expresa cualidad. Pero este tipo de definición no lleva a ninguna parte porque también sustantivo y verbo pueden expresarla: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“blancura – blanquear”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ás correcto es decir que, en relación con su significado , hay varias clases de adje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5374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Usamos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ante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as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porque ya sabemos que el interlocutor tien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una casa 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Al contrari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muy interesa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s una informació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que el hablante da al interlocutor, y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redonda o cuadra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irven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distingui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teposi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  adjetivo al sustantivo da una significación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más poética y afectiv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viej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jardín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juicio personal y afecti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jardín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viej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observación objetiva y realis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también adjetivos que se pueden tanto anteponer como pospo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 decimos qu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colocación normal es neutra, mientras la desacostumbrada es expres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yoría de los adjetivo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 (que indican la categoría a la que pertenece cierto elemento: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vestido elega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proced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y todos los adjetivos de nacionalida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y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form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(redondo, rectangular..)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despué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, porque, debido a su naturaleza, sirven para especifi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613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lgunos adjetivos cambian de significado según la posición que ocupan con respecto al sustan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pobr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hombr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desgraciad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o)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hombr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pobr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sin dine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iert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sa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algun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os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iert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verdader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gr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hombr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que destac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hombr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grande (de tamañ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nuev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ot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oc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un coche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nuev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si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usar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84232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que indic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orde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n una serie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primero, segundo, siguiente, próximo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normalmente se pon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nt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fue mi primera novia/ Te pido una segunda oport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ero cuando hablamos d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lantas de un edificio o de capítulos de un libro,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ambién se pueden usa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despué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Primera planta /Planta pri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Segundo capítulo / capítulo seg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Hay casos en que el adjetivo forma con el sustantivo una unidad conceptual. En este caso tiene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posición fija, que no se  puede camb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l libre albedrí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via férre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5374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pueden expresar la cualidad del nombre en diferentes grad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grad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osi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xpresa simplemente l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ual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guap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grad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ompar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lo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compar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con la de otro nombre y puede ser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gual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t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com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,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nferior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meno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qu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 o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superioridad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ma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guapa que Ber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613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adjetivos 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inferior, superior, mayor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menor, mejor y peor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llamados adjetiv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sintétic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se derivan directamente del comparativo latino y no admiten este grado, ya que no es correcto decir más inferior que, menos superior que o tan mayor como, por ejemp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•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l grado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uperl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xpresa la cualidad en el mayor grado y puede se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bsolu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muy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guapa. 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guapísima, superguapa, requeteguap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rel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más guapa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famil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na es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menos guapa de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famil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Cuando el adjetivo v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troducido por un verbo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suele constituir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formación nueva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con respecto al sustan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¿Qué te parece? Es preci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 veces, se encuentran us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dverbia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ad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Respire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hond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/ ¿No lo puedes hacer un poc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más ráp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537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calificativos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son los que expresan una cualidad del sustantivo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Bueno, malo, inteligente, vali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de relación o perten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inguístico, social, musical, ocul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gentilici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: expresan el origen o la procedencia del elemento al que se refieren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madrileño, canario, rus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djetivos cuasideterminativ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: son adjetivos cuyo significado está muy cercano de los determinativos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siguiente, último, anterior, postrero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5374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ndo ya sabemos de qué sustantivo estamos hablando, desaparece el sustantivo y se queda sólo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determinante seguido del adjetiv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¿Cuál prefieres?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a v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demás podem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sustantivar el adje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ara referirnos de manera abstracta a todo lo que tiene las características expresadas por el adje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Verdana"/>
                <a:ea typeface="Verdana"/>
              </a:rPr>
              <a:t>Lo bon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el verbo ser :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s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relación y procedenci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El problem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es político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/ Soy extremeño, es un problema o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con sujetos oraciona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es necesario, es probable, es importante, es distinto, es común, es evidente, es propio,es absurd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todo estos casos e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imposibl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utiliza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si lo que sigue es un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oración con función de suje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estar :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s los adjetivos que indican u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result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so l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rticipi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alvo e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strucciones pasiv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se construyen con est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Ana 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cansad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, el jarrón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roto,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bebé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á sen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djetivos que se combinan con ser y estar: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se combina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s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adjetivo design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cualidad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her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o designado por el sujeto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urora es ale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característica más o men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man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, que pertenece a su descripción o lo clasif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Pedro es soltero (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 incluimos en una cl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ndo se combina con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el adjetivo design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Cualidad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dquirid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roducto de un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cambi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real o pens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Pedro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stá solt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ha cambiado estado)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urora </a:t>
            </a: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está alegre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(nos referimos al estado anímico en este momento concre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61372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adjetivos de una sola terminación son invariables en cuanto al género (agua / cie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zu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hombre / mujer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legr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paseo / músic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gradabl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) y los adjetivos de dos terminaciones varían de género al tener distintas terminaciones en masculino y en femenino (fresc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fresc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; buen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buen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; blanc 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, blanc-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61372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Algunos adjetivos se apocopan: bueno, malo y santo se convierten, 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buen, mal y s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cuando van delante de nombre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masculin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buen hombre, mal amigo, San José), aunque santo presenta algunas excepciones (Santo Tomás, Santo Tomé, Santo Toribio y Santo Ángel), y grande se convierte e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gr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delante de cualquier nombr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masculino o femeni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n hombre, gran muj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60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Todos losadjetivos tienen diferentes formas al cambiar de núme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Tienen excepcion los adjetivos qu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terminan en –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y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son palabra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agudas que son invariabl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tis, isósceles, et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Los que terminan e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vocal áton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en singular forman el plural añadiendo –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grande, grande-s; hermosa-s; limpio, limpio-s), y los que terminan e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consonante o vocal tónic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form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añadiendo la terminación –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  <a:ea typeface="Verdana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Verdana"/>
              </a:rPr>
              <a:t> (baladí, baladíes; común, comunes; mortal, m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5374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gún lo que afirman muchos gramáticos los adjetiv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no tienen gén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 que ocurre es que, según el sustantivo que acompañen, adoptarán una terminación particular. Por lo tanto sólo los sustantivos implican gé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djetiv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y l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artículo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no implic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géner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sólo l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expresa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y poseen terminaciones par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comodarse al género del sustan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3740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adjetivos pueden complementar al sustantiv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siguiéndol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ecediéndol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Su posición determina también su va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jetiv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pospuest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al sustantivo: suele llamarse adjetiv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especifica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porque generalmente constituye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nuev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con respecto al sustan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también para distinguir el objeto del que hablamos de otros obje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sto hace que en esta posición tenga un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lieve mayor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Acabo de leer una nove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muy interesante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¿Vas a comprarte la mes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redon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o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cuadrad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ambién digo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abell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blanc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oposición a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abello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negro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8423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cambio, cuando el adjetivo v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ntes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sustantivo ya no es nuevo con respecto a él, y juntos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forman un bloqu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usa normalmente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destacar una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Verdana"/>
              </a:rPr>
              <a:t>cualidad del objeto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presupone la relación adjetivo-sustantivo.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¿Estáis ya en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nuev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asa?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/ La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gran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ballena se alimenta de las 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pequeñas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criaturas del planc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16T15:05:4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